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6EF-0722-48B4-8412-15FA3A60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DBF-BB92-4AF7-BB08-FBBB8369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AE3-AAF3-47B8-9DBF-C6AA3143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BCC-2239-4598-90F4-A676475A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97A3-60A3-401A-BF47-A890C502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0A49-6C9F-4C29-89C4-333B9A0F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B43E-84F7-49F7-B9B4-6A148598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B018-47A5-402D-961E-6204C730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3199-ABEC-4DEA-9A55-97B2B9DD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C7C5-B3BE-449E-9AB9-0E14851E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F8D3-B7E3-4AEA-900D-B3DA3D5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74F-104D-4848-B025-1E94CCCF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EB0B-E88F-4A68-A1ED-8D45F0A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04D8-2852-46C4-B4EA-8E5D325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437F-22CC-46D0-BD0A-BDA1670B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DEA0-7FF1-48AF-B2F5-0B8A72CF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2B55-9C62-4598-A773-7A07675E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90E-4896-4DCC-BD8A-FC45B003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B65-FD68-475E-B6A9-C237F7AA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F4E-4DE3-4727-8076-106E7F5D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A8B-6799-4D50-BF40-C2334A6A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D7B-648F-4E41-9E32-8843724D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0E5-739E-4BE7-8E04-A2324C8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738-1300-4110-9361-42DBAB0B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0DBD-55F3-4D2A-B851-6925961655DD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096A-7FDF-4268-BAEA-3CD11601A616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chitect"/>
              </a:rPr>
              <a:t>Stem and </a:t>
            </a:r>
            <a:br>
              <a:rPr sz="5400"/>
            </a:br>
            <a:r>
              <a:rPr b="1" lang="en-US" sz="5400" spc="-1" strike="noStrike" u="sng">
                <a:solidFill>
                  <a:srgbClr val="000000"/>
                </a:solidFill>
                <a:uFillTx/>
                <a:latin typeface="Architect"/>
              </a:rPr>
              <a:t>Leaf Plots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43200" y="838080"/>
            <a:ext cx="3813120" cy="2713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34360" y="3809880"/>
            <a:ext cx="1005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Are there any numbers in the 50s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the data set?     N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Not even 50?    No! That would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represented with a 0 after the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chitect"/>
              </a:rPr>
              <a:t>Stem and Leaf Plo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Distribution of a set of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Can be used to determine minimum, maximum, mean, median, mode and outli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Stem-and-leaf plots are a method for showing the frequency with which certain classes of values occ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93432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chitect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chitect"/>
              </a:rPr>
              <a:t>* Data set- any set of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chitect"/>
              </a:rPr>
              <a:t>* Distribution- values of the data and the frequency that each value occ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chitect"/>
              </a:rPr>
              <a:t>* Stem- all the digits of a number except its rightmost dig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chitect"/>
              </a:rPr>
              <a:t>* Leaf- the final (rightmost) digit of a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chitect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ean- the numeric aver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edian- the middle val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ode- the number that occurs the m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inimum- the lowest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aximum- the highest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Outliers- an unusually low or high value in the data s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chitect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chitect"/>
              </a:rPr>
              <a:t>Symmetric data set- a data set with a stem and leaf plot whose upper half is a mirror image of its lower hal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chitect"/>
              </a:rPr>
              <a:t>Skewed data set- a data set that is not symmetri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chitect"/>
              </a:rPr>
              <a:t>Example: Create a Stem and Leaf Plot from the given data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Test scores on last week’s Algebra exam were:  56, 58, 74, 74, 78, 79, 80, 81, 84, 90, 92, 93, 93, 95, 9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233440"/>
            <a:ext cx="4419720" cy="3679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chitect"/>
              </a:rPr>
              <a:t>Create a list of values from the following stem and leaf plo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chitect"/>
              </a:rPr>
              <a:t>Answer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600880" y="1676520"/>
            <a:ext cx="354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1981080"/>
            <a:ext cx="354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838080"/>
            <a:ext cx="3813120" cy="271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402840" y="3960720"/>
            <a:ext cx="1005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What numbers are repeated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data set, according to the stem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leaf plot above?     21, 37, and 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8:44:06Z</dcterms:created>
  <dc:creator>PA Department of Education</dc:creator>
  <dc:description/>
  <dc:language>en-US</dc:language>
  <cp:lastModifiedBy>Parkland High School</cp:lastModifiedBy>
  <cp:lastPrinted>2011-05-12T14:17:34Z</cp:lastPrinted>
  <dcterms:modified xsi:type="dcterms:W3CDTF">2011-05-12T14:17:39Z</dcterms:modified>
  <cp:revision>9</cp:revision>
  <dc:subject/>
  <dc:title>Stem and Leaf Plots</dc:title>
</cp:coreProperties>
</file>